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61C3-33BB-49BD-A2EB-4A55B197A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68D0-25F7-41B8-A46F-16B4C79A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CCC2-2D70-4721-A344-595A080FA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1863-CB0D-47F6-AB03-9C6451882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3153-C6AD-43F7-BEB5-D5480EF69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09517-3F60-4CDA-B660-B61D9DB0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6A12-800F-45FE-AFE3-673E9DD9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D50E-0607-4AD7-99C4-8A2C5D70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F290-9DC5-41C8-A9CF-A697221F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432440" y="360000"/>
            <a:ext cx="7406280" cy="68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A1B8-979B-4405-98DB-5222ACFC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68766-8637-4091-81D3-2B490EB0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69AF-264B-47A2-BD8E-2C9CE25B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6A7F-CD95-4BE0-B346-4B55900D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B348-79B8-42E6-BA9A-3B18F9F8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3E68-EE6B-4CA6-9570-FCC6F34A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A077-B611-4362-8243-C3A0593B3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3C50-5060-482E-AC77-86DE96583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CC2F5-4B63-4873-AD99-0FBE928D5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913C7-DDD1-47B2-B8DA-6ADCE787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C132B-892F-4AE6-B9E9-8C649B129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5E929-69AF-42F6-B268-486988B9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1EE85-BCCA-4ED3-B75D-4DE5CF46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AAD8-6F59-45F5-939E-FE691FDA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432440" y="360000"/>
            <a:ext cx="7406280" cy="68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696EC-4AE6-4C5B-994D-069F26B7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447FE-7028-4AC0-9E9E-0CC3291D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CDA06-5A5D-4107-B4E5-92161AB5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BF825-F803-414E-ADEB-8CBEC26E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1E601-E7D4-4535-8D2B-B8A4FC4A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852E5-2346-4488-B6F9-AB50223AA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65117-3829-41A5-AF1A-62CC07593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8EDD-9F90-47A7-B52A-DFE08098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C1A1-4FE6-4E5C-9E5C-D4BAC760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2440" y="360000"/>
            <a:ext cx="7406280" cy="68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6138-03B8-4F32-9B35-A39F4B24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8574-6ECE-458D-865D-153AF543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1EB7-EA47-4585-9B07-81281D37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99C5-94C5-4C7C-A9B7-2A83C496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1C8D972-3FC3-46BF-9B9B-427B227DEC35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Овал 7"/>
          <p:cNvSpPr/>
          <p:nvPr/>
        </p:nvSpPr>
        <p:spPr>
          <a:xfrm>
            <a:off x="921600" y="1413720"/>
            <a:ext cx="209880" cy="209880"/>
          </a:xfrm>
          <a:prstGeom prst="ellipse">
            <a:avLst/>
          </a:prstGeom>
          <a:gradFill rotWithShape="0">
            <a:gsLst>
              <a:gs pos="0">
                <a:srgbClr val="daf5fe">
                  <a:alpha val="95294"/>
                </a:srgbClr>
              </a:gs>
              <a:gs pos="100000">
                <a:srgbClr val="00aad4">
                  <a:alpha val="85098"/>
                </a:srgbClr>
              </a:gs>
            </a:gsLst>
            <a:path path="circle">
              <a:fillToRect l="25000" t="12000" r="75000" b="88000"/>
            </a:path>
          </a:gradFill>
          <a:ln cap="rnd" w="2000">
            <a:solidFill>
              <a:srgbClr val="3891a7">
                <a:shade val="90000"/>
                <a:satMod val="110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0" name="Овал 8"/>
          <p:cNvSpPr/>
          <p:nvPr/>
        </p:nvSpPr>
        <p:spPr>
          <a:xfrm>
            <a:off x="1157040" y="1344960"/>
            <a:ext cx="63720" cy="63720"/>
          </a:xfrm>
          <a:prstGeom prst="ellipse">
            <a:avLst/>
          </a:prstGeom>
          <a:noFill/>
          <a:ln cap="rnd" w="12700">
            <a:solidFill>
              <a:srgbClr val="3891a7">
                <a:shade val="75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0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2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0D87020-B729-4591-BD3D-89B507EE043E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5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6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7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8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435680" y="1523880"/>
            <a:ext cx="3657240" cy="466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36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36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body"/>
          </p:nvPr>
        </p:nvSpPr>
        <p:spPr>
          <a:xfrm>
            <a:off x="5276160" y="1523880"/>
            <a:ext cx="3657240" cy="466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36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36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7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C4B51C7-0047-47A0-B4A2-59FABBB01CE8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www.google.ru/imghp?hl=ru&amp;tab=wi" TargetMode="External"/><Relationship Id="rId2" Type="http://schemas.openxmlformats.org/officeDocument/2006/relationships/hyperlink" Target="http://www.fcior.edu.ru/card/5395/narechie-kak-chast-rechi-i1.html" TargetMode="External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fcior.edu.ru/card/5395/narechie-kak-chast-rechi-i1.html" TargetMode="External"/><Relationship Id="rId2" Type="http://schemas.openxmlformats.org/officeDocument/2006/relationships/hyperlink" Target="http://files.school-collection.edu.ru/dlrstore/5b747fdf-1a05-4e53-a3f7-fdca90f6e89c/%5BIS-TA_05-11_07%5D_%5BIA_02-AT%5D.swf" TargetMode="External"/><Relationship Id="rId3" Type="http://schemas.openxmlformats.org/officeDocument/2006/relationships/hyperlink" Target="http://www.fcior.edu.ru/card/5434/narechie-kak-chast-rechi-i2.html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03640" y="119664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0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Презентация к уроку «Наречие как часть речи» в 7 классе (1 урок по теме «Наречие»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475640" y="3285000"/>
            <a:ext cx="740628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36130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59640" y="1124640"/>
            <a:ext cx="7406280" cy="7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Использованные материалы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5640" y="2133000"/>
            <a:ext cx="7766280" cy="27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rmAutofit fontScale="75000"/>
          </a:bodyPr>
          <a:p>
            <a:pPr marL="2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361309"/>
                </a:solidFill>
                <a:latin typeface="Gill Sans MT"/>
              </a:rPr>
              <a:t>1. Русский язык. 7-9 классы: поурочные планы по программе М. Т. Баранова, Т. А. Ладыженской, Н. М. Шанского (компакт-диск) – издательство «Учитель», 20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361309"/>
                </a:solidFill>
                <a:latin typeface="Gill Sans MT"/>
              </a:rPr>
              <a:t>2. Тестовые задания по русскому языку: 7 кл.: пособие для учащихся/ Г. А. Богданова.- М.: Просвещение, 200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361309"/>
                </a:solidFill>
                <a:latin typeface="Gill Sans MT"/>
              </a:rPr>
              <a:t>3. Рисунки, найденные в сети Интернет (</a:t>
            </a:r>
            <a:r>
              <a:rPr b="0" lang="en-US" sz="2600" spc="-1" strike="noStrike" u="sng">
                <a:solidFill>
                  <a:srgbClr val="51842d"/>
                </a:solidFill>
                <a:uFillTx/>
                <a:latin typeface="Gill Sans MT"/>
                <a:hlinkClick r:id="rId1"/>
              </a:rPr>
              <a:t>https://www.google.ru/imghp?hl=ru&amp;tab=wi</a:t>
            </a:r>
            <a:r>
              <a:rPr b="0" lang="ru-RU" sz="2600" spc="-1" strike="noStrike">
                <a:solidFill>
                  <a:srgbClr val="361309"/>
                </a:solidFill>
                <a:latin typeface="Gill Sans MT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361309"/>
                </a:solidFill>
                <a:latin typeface="Gill Sans MT"/>
              </a:rPr>
              <a:t>4. Электронные образовательные ресурсы (</a:t>
            </a:r>
            <a:r>
              <a:rPr b="0" lang="ru-RU" sz="2600" spc="-1" strike="noStrike" u="sng">
                <a:solidFill>
                  <a:srgbClr val="51842d"/>
                </a:solidFill>
                <a:uFillTx/>
                <a:latin typeface="Gill Sans MT"/>
                <a:hlinkClick r:id="rId2"/>
              </a:rPr>
              <a:t>www.fcior.edu.ru</a:t>
            </a:r>
            <a:r>
              <a:rPr b="0" lang="ru-RU" sz="2600" spc="-1" strike="noStrike" u="sng">
                <a:solidFill>
                  <a:srgbClr val="361309"/>
                </a:solidFill>
                <a:uFillTx/>
                <a:latin typeface="Gill Sans MT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59640" y="33264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572314"/>
                </a:solidFill>
                <a:latin typeface="Gill Sans MT"/>
              </a:rPr>
              <a:t>Наречие  как  часть  речи</a:t>
            </a:r>
            <a:endParaRPr b="0" lang="ru-RU" sz="5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Прямоугольник 2"/>
          <p:cNvSpPr/>
          <p:nvPr/>
        </p:nvSpPr>
        <p:spPr>
          <a:xfrm>
            <a:off x="1547640" y="2925000"/>
            <a:ext cx="72723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ttp://www.fcior.edu.ru/card/5395/narechie-kak-chast-rechi-i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3"/>
          <p:cNvSpPr/>
          <p:nvPr/>
        </p:nvSpPr>
        <p:spPr>
          <a:xfrm>
            <a:off x="1691640" y="5517360"/>
            <a:ext cx="73443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http://files.school-collection.edu.ru/dlrstore/5b747fdf-1a05-4e53-a3f7-fdca90f6e89c/%5BIS-TA_05-11_07%5D_%5BIA_02-AT%5D.sw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4"/>
          <p:cNvSpPr/>
          <p:nvPr/>
        </p:nvSpPr>
        <p:spPr>
          <a:xfrm>
            <a:off x="1619640" y="4221000"/>
            <a:ext cx="66963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8dc765"/>
                </a:solidFill>
                <a:uFillTx/>
                <a:latin typeface="Gill Sans MT"/>
                <a:hlinkClick r:id="rId3"/>
              </a:rPr>
              <a:t>http://www.fcior.edu.ru/card/5434/narechie-kak-chast-rechi-i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5"/>
          <p:cNvSpPr/>
          <p:nvPr/>
        </p:nvSpPr>
        <p:spPr>
          <a:xfrm>
            <a:off x="1350360" y="2205000"/>
            <a:ext cx="6505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1. Основные свойства нареч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6"/>
          <p:cNvSpPr/>
          <p:nvPr/>
        </p:nvSpPr>
        <p:spPr>
          <a:xfrm>
            <a:off x="1304640" y="4725000"/>
            <a:ext cx="7078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3. Способы образования нареч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1541520" y="3429000"/>
            <a:ext cx="45399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2. Значения нареч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3933000"/>
            <a:ext cx="7641720" cy="25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572314"/>
                </a:solidFill>
                <a:latin typeface="Gill Sans MT"/>
              </a:rPr>
              <a:t>1. С самого утра небо </a:t>
            </a:r>
            <a:r>
              <a:rPr b="1" i="1" lang="ru-RU" sz="4400" spc="-1" strike="noStrike">
                <a:solidFill>
                  <a:srgbClr val="c00000"/>
                </a:solidFill>
                <a:latin typeface="Gill Sans MT"/>
              </a:rPr>
              <a:t>ясно</a:t>
            </a:r>
            <a:r>
              <a:rPr b="1" i="1" lang="ru-RU" sz="4400" spc="-1" strike="noStrike">
                <a:solidFill>
                  <a:srgbClr val="572314"/>
                </a:solidFill>
                <a:latin typeface="Gill Sans MT"/>
              </a:rPr>
              <a:t>.</a:t>
            </a:r>
            <a:br>
              <a:rPr sz="4400"/>
            </a:br>
            <a:r>
              <a:rPr b="1" lang="ru-RU" sz="4400" spc="-1" strike="noStrike">
                <a:solidFill>
                  <a:srgbClr val="572314"/>
                </a:solidFill>
                <a:latin typeface="Gill Sans MT"/>
              </a:rPr>
              <a:t>2.</a:t>
            </a:r>
            <a:r>
              <a:rPr b="1" i="1" lang="ru-RU" sz="4400" spc="-1" strike="noStrike">
                <a:solidFill>
                  <a:srgbClr val="572314"/>
                </a:solidFill>
                <a:latin typeface="Gill Sans MT"/>
              </a:rPr>
              <a:t>Сергей четко и </a:t>
            </a:r>
            <a:r>
              <a:rPr b="1" i="1" lang="ru-RU" sz="4400" spc="-1" strike="noStrike">
                <a:solidFill>
                  <a:srgbClr val="c00000"/>
                </a:solidFill>
                <a:latin typeface="Gill Sans MT"/>
              </a:rPr>
              <a:t>ясно </a:t>
            </a:r>
            <a:r>
              <a:rPr b="1" i="1" lang="ru-RU" sz="4400" spc="-1" strike="noStrike">
                <a:solidFill>
                  <a:srgbClr val="572314"/>
                </a:solidFill>
                <a:latin typeface="Gill Sans MT"/>
              </a:rPr>
              <a:t>ответил на поставленный вопрос.  </a:t>
            </a: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640" y="188640"/>
            <a:ext cx="8280720" cy="36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marL="35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Проанализируйте значение и синтаксическую роль слова </a:t>
            </a:r>
            <a:r>
              <a:rPr b="1" i="1" lang="ru-RU" sz="3600" spc="-1" strike="noStrike">
                <a:solidFill>
                  <a:srgbClr val="c00000"/>
                </a:solidFill>
                <a:latin typeface="Cambria"/>
              </a:rPr>
              <a:t>ЯСНО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в представленных предложениях.  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5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Что различает эти слова? 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5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ожете ли вы определить, к какой части речи они относятся?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24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5400" spc="49" strike="noStrike">
                <a:solidFill>
                  <a:schemeClr val="accent2"/>
                </a:solidFill>
                <a:latin typeface="Times New Roman"/>
              </a:rPr>
              <a:t>Наречие как часть речи</a:t>
            </a:r>
            <a:endParaRPr b="0" lang="ru-RU" sz="5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214200" y="1000080"/>
            <a:ext cx="6329160" cy="52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речие - самостоятельная часть речи, которая обычно обозначает признак действия. Наречия отвечают на вопросы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Как? Когда? Где? Куда? Зачем? С какой целью? В какой степени? И т.д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речия не изменяются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предложении являются обстоятельствам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7" name="Рисунок 4" descr="53.gif"/>
          <p:cNvPicPr/>
          <p:nvPr/>
        </p:nvPicPr>
        <p:blipFill>
          <a:blip r:embed="rId1"/>
          <a:stretch/>
        </p:blipFill>
        <p:spPr>
          <a:xfrm>
            <a:off x="6429240" y="3784680"/>
            <a:ext cx="2499840" cy="2858760"/>
          </a:xfrm>
          <a:prstGeom prst="rect">
            <a:avLst/>
          </a:prstGeom>
          <a:ln w="9525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5826240" y="1143000"/>
            <a:ext cx="3317400" cy="18666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428760" y="4143240"/>
            <a:ext cx="4444560" cy="24998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ffa617"/>
                </a:solidFill>
                <a:latin typeface="Times New Roman"/>
              </a:rPr>
              <a:t>ВЫБЕРИТЕ НАРЕЧИЕ</a:t>
            </a:r>
            <a:endParaRPr b="0" lang="ru-RU" sz="5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786200" y="1600200"/>
            <a:ext cx="4071600" cy="52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чера, день, шляпа, холодно, взмахимая, улыбаясь, синеющий, куртка, осторожно, слишком, потом, плакат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285840" y="1357200"/>
            <a:ext cx="4357440" cy="30459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476640"/>
            <a:ext cx="8393760" cy="9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8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572314"/>
                </a:solidFill>
                <a:latin typeface="Gill Sans MT"/>
              </a:rPr>
              <a:t>Найдите  словосочетания:</a:t>
            </a:r>
            <a:br>
              <a:rPr sz="3600"/>
            </a:br>
            <a:r>
              <a:rPr b="1" lang="ru-RU" sz="3600" spc="-1" strike="noStrike">
                <a:solidFill>
                  <a:srgbClr val="572314"/>
                </a:solidFill>
                <a:latin typeface="Gill Sans MT"/>
              </a:rPr>
              <a:t>наречие + слово, с которым оно сочетается.</a:t>
            </a:r>
            <a:br>
              <a:rPr sz="4300"/>
            </a:b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24000" y="1268640"/>
            <a:ext cx="4896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1000"/>
          </a:bodyPr>
          <a:p>
            <a:pPr marL="320040" indent="-2476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1) И </a:t>
            </a:r>
            <a:r>
              <a:rPr b="0" lang="ru-RU" sz="2800" spc="-1" strike="noStrike" u="dotDash">
                <a:solidFill>
                  <a:srgbClr val="000000"/>
                </a:solidFill>
                <a:uFillTx/>
                <a:latin typeface="Gill Sans MT"/>
              </a:rPr>
              <a:t>тогда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кабинет господина де Тревиля </a:t>
            </a:r>
            <a:r>
              <a:rPr b="0" lang="ru-RU" sz="2800" spc="-1" strike="noStrike" u="dotDash">
                <a:solidFill>
                  <a:srgbClr val="000000"/>
                </a:solidFill>
                <a:uFillTx/>
                <a:latin typeface="Gill Sans MT"/>
              </a:rPr>
              <a:t>всегда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 вызывавш..трепет у всех входивш.. </a:t>
            </a:r>
            <a:r>
              <a:rPr b="0" lang="ru-RU" sz="2800" spc="-1" strike="noStrike" u="dotDash">
                <a:solidFill>
                  <a:srgbClr val="000000"/>
                </a:solidFill>
                <a:uFillTx/>
                <a:latin typeface="Gill Sans MT"/>
              </a:rPr>
              <a:t>мгновенно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превратился в отделение приемной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20040" indent="-2476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2) У ворот он увидел Портоса беседовавш.. с караульным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20040" indent="-2476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3) </a:t>
            </a:r>
            <a:r>
              <a:rPr b="0" lang="ru-RU" sz="2800" spc="-1" strike="noStrike" u="dotDash">
                <a:solidFill>
                  <a:srgbClr val="000000"/>
                </a:solidFill>
                <a:uFillTx/>
                <a:latin typeface="Gill Sans MT"/>
              </a:rPr>
              <a:t>Там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я  укажу вам подходящ.. для поединка место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20040" indent="-2476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4) Д’Артаньян произнес эти слова с простотой делавш.. честь его учтивости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5" name="Содержимое 4" descr="295265700.jpg"/>
          <p:cNvPicPr/>
          <p:nvPr/>
        </p:nvPicPr>
        <p:blipFill>
          <a:blip r:embed="rId1"/>
          <a:stretch/>
        </p:blipFill>
        <p:spPr>
          <a:xfrm>
            <a:off x="179640" y="3213000"/>
            <a:ext cx="3657240" cy="2979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56" name="Прямоугольник 5"/>
          <p:cNvSpPr/>
          <p:nvPr/>
        </p:nvSpPr>
        <p:spPr>
          <a:xfrm>
            <a:off x="251640" y="1628640"/>
            <a:ext cx="33120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27130e"/>
                </a:solidFill>
                <a:latin typeface="Gill Sans MT"/>
              </a:rPr>
              <a:t>Нас приглашает А. Дюм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476640"/>
            <a:ext cx="8393760" cy="9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8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572314"/>
                </a:solidFill>
                <a:latin typeface="Gill Sans MT"/>
              </a:rPr>
              <a:t>Найдите  словосочетания:</a:t>
            </a:r>
            <a:br>
              <a:rPr sz="3600"/>
            </a:br>
            <a:r>
              <a:rPr b="1" lang="ru-RU" sz="3600" spc="-1" strike="noStrike">
                <a:solidFill>
                  <a:srgbClr val="572314"/>
                </a:solidFill>
                <a:latin typeface="Gill Sans MT"/>
              </a:rPr>
              <a:t>наречие + слово, с которым оно сочетается.</a:t>
            </a:r>
            <a:br>
              <a:rPr sz="4300"/>
            </a:b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708000" y="1268640"/>
            <a:ext cx="5112360" cy="51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marL="339840" indent="-263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5) Д’Артаньяну приходилось напрягать всю свою волю, чтобы не вмешаться в  происходивш.. </a:t>
            </a:r>
            <a:r>
              <a:rPr b="0" lang="ru-RU" sz="2800" spc="-1" strike="noStrike" u="dotDash">
                <a:solidFill>
                  <a:srgbClr val="000000"/>
                </a:solidFill>
                <a:uFillTx/>
                <a:latin typeface="Gill Sans MT"/>
              </a:rPr>
              <a:t>там, внизу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6) Д’Артаньян </a:t>
            </a:r>
            <a:r>
              <a:rPr b="0" lang="ru-RU" sz="2800" spc="-1" strike="noStrike" u="dotDash">
                <a:solidFill>
                  <a:srgbClr val="000000"/>
                </a:solidFill>
                <a:uFillTx/>
                <a:latin typeface="Gill Sans MT"/>
              </a:rPr>
              <a:t>немедленно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отправился в указанный ему трактир который узнал по крикам  доносивш.. ся </a:t>
            </a:r>
            <a:r>
              <a:rPr b="0" lang="ru-RU" sz="2800" spc="-1" strike="noStrike" u="dotDash">
                <a:solidFill>
                  <a:srgbClr val="000000"/>
                </a:solidFill>
                <a:uFillTx/>
                <a:latin typeface="Gill Sans MT"/>
              </a:rPr>
              <a:t>оттуда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7)  Войти к будущ..му аббату оказалось </a:t>
            </a:r>
            <a:r>
              <a:rPr b="0" lang="ru-RU" sz="2800" spc="-1" strike="noStrike" u="dotDotDash">
                <a:solidFill>
                  <a:srgbClr val="000000"/>
                </a:solidFill>
                <a:uFillTx/>
                <a:latin typeface="Gill Sans MT"/>
              </a:rPr>
              <a:t>не так-то просто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9" name="Содержимое 4" descr="295265700.jpg"/>
          <p:cNvPicPr/>
          <p:nvPr/>
        </p:nvPicPr>
        <p:blipFill>
          <a:blip r:embed="rId1"/>
          <a:stretch/>
        </p:blipFill>
        <p:spPr>
          <a:xfrm>
            <a:off x="179640" y="3213000"/>
            <a:ext cx="3657240" cy="2979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60" name="Прямоугольник 5"/>
          <p:cNvSpPr/>
          <p:nvPr/>
        </p:nvSpPr>
        <p:spPr>
          <a:xfrm>
            <a:off x="251640" y="1628640"/>
            <a:ext cx="33120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27130e"/>
                </a:solidFill>
                <a:latin typeface="Gill Sans MT"/>
              </a:rPr>
              <a:t>Нас приглашает А. Дюм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627640" y="332640"/>
            <a:ext cx="3567960" cy="9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3000"/>
          </a:bodyPr>
          <a:p>
            <a:pPr indent="0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rgbClr val="572314"/>
                </a:solidFill>
                <a:latin typeface="Gill Sans MT"/>
              </a:rPr>
              <a:t>Сравните:</a:t>
            </a:r>
            <a:endParaRPr b="0" lang="ru-RU" sz="6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5640" y="1268640"/>
            <a:ext cx="7416360" cy="25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1000"/>
          </a:bodyPr>
          <a:p>
            <a:pPr marL="318600" indent="-246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6200" spc="-1" strike="noStrike">
                <a:solidFill>
                  <a:srgbClr val="000000"/>
                </a:solidFill>
                <a:latin typeface="Gill Sans MT"/>
              </a:rPr>
              <a:t>На завтрак я ел яйцо всмятку.</a:t>
            </a:r>
            <a:endParaRPr b="0" lang="ru-RU" sz="6200" spc="-1" strike="noStrike">
              <a:solidFill>
                <a:srgbClr val="000000"/>
              </a:solidFill>
              <a:latin typeface="Gill Sans MT"/>
            </a:endParaRPr>
          </a:p>
          <a:p>
            <a:pPr marL="318600" indent="-246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6200" spc="-1" strike="noStrike">
                <a:solidFill>
                  <a:srgbClr val="000000"/>
                </a:solidFill>
                <a:latin typeface="Gill Sans MT"/>
              </a:rPr>
              <a:t>В результате аварии обе машины разбились всмятку.</a:t>
            </a:r>
            <a:endParaRPr b="0" lang="ru-RU" sz="6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3" name="Picture 2" descr="C:\Users\Анна\Desktop\всмятку.jpg"/>
          <p:cNvPicPr/>
          <p:nvPr/>
        </p:nvPicPr>
        <p:blipFill>
          <a:blip r:embed="rId1"/>
          <a:stretch/>
        </p:blipFill>
        <p:spPr>
          <a:xfrm>
            <a:off x="5004000" y="3789000"/>
            <a:ext cx="3606840" cy="2705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Users\Анна\Desktop\image2136690.jpg"/>
          <p:cNvPicPr/>
          <p:nvPr/>
        </p:nvPicPr>
        <p:blipFill>
          <a:blip r:embed="rId2"/>
          <a:stretch/>
        </p:blipFill>
        <p:spPr>
          <a:xfrm>
            <a:off x="755640" y="3789000"/>
            <a:ext cx="3777840" cy="271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Подведем итоги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</a:pPr>
            <a:r>
              <a:rPr b="0" lang="ru-RU" sz="4400" spc="-1" strike="noStrike">
                <a:solidFill>
                  <a:srgbClr val="000000"/>
                </a:solidFill>
                <a:latin typeface="Gill Sans MT"/>
              </a:rPr>
              <a:t>Чем наречие отличается от других самостоятельных частей речи?</a:t>
            </a: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23640" y="404640"/>
            <a:ext cx="52963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300" spc="-1" strike="noStrike">
                <a:solidFill>
                  <a:srgbClr val="572314"/>
                </a:solidFill>
                <a:latin typeface="Gill Sans MT"/>
              </a:rPr>
              <a:t>Домашнее задание:</a:t>
            </a: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699640" y="1484640"/>
            <a:ext cx="46483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ill Sans MT"/>
              </a:rPr>
              <a:t>§ 32, 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ill Sans MT"/>
              </a:rPr>
              <a:t>упр. 197, 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ill Sans MT"/>
              </a:rPr>
              <a:t>упр.199.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olstice</Template>
  <TotalTime>134</TotalTime>
  <Application>LibreOffice/7.4.7.2$Linux_X86_64 LibreOffice_project/40$Build-2</Application>
  <AppVersion>15.0000</AppVersion>
  <Words>391</Words>
  <Paragraphs>4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1T18:24:23Z</dcterms:created>
  <dc:creator>Анна</dc:creator>
  <dc:description/>
  <dc:language>en-US</dc:language>
  <cp:lastModifiedBy>1</cp:lastModifiedBy>
  <dcterms:modified xsi:type="dcterms:W3CDTF">2012-12-20T00:31:41Z</dcterms:modified>
  <cp:revision>19</cp:revision>
  <dc:subject/>
  <dc:title>Словарный диктан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1</vt:r8>
  </property>
</Properties>
</file>